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2ED-D906-4AC4-B0E5-0D46ACE6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B87-113C-4E6C-8657-B074CC98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658-81B6-434D-8071-D386816F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D20-9DD5-4308-9152-6A07F7B8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4F2-4DE7-49CA-8CEB-02948088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111-2188-4EE9-B312-7D21AA00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8F5-63BD-444F-9F47-C9DC7D5B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AAA-4212-4FBA-B1BE-0DD220B9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E86-F201-4D3D-A356-8AD034CB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705-E26E-426F-B293-693717CF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728-C893-4E59-966B-A75B1FE4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84F-D7E9-4A09-929E-A161E50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249C-AD5A-41A5-A4D8-1D812EA93771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6899-A847-41DF-9430-F12C0A26AFDA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7520" y="658656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05/1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81160" y="6095880"/>
            <a:ext cx="500544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versidad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utónoma Benito Juárez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axac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, Oa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cultad de Contaduría y Administr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34280" y="65880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C81D-A61F-4241-9F59-86A6B53D1EFA}" type="slidenum">
              <a:rPr b="1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5670360" y="326124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bbe0e3"/>
                </a:solidFill>
                <a:latin typeface="Arial Black"/>
              </a:rPr>
              <a:t>1</a:t>
            </a:r>
            <a:r>
              <a:rPr b="0" lang="es-MX" sz="1400" spc="-1" strike="noStrike" baseline="30000">
                <a:solidFill>
                  <a:srgbClr val="bbe0e3"/>
                </a:solidFill>
                <a:latin typeface="Arial Black"/>
              </a:rPr>
              <a:t>ra</a:t>
            </a:r>
            <a:r>
              <a:rPr b="0" lang="es-MX" sz="1400" spc="-1" strike="noStrike">
                <a:solidFill>
                  <a:srgbClr val="bbe0e3"/>
                </a:solidFill>
                <a:latin typeface="Arial Black"/>
              </a:rPr>
              <a:t> Reunión Nacional de  Ciencias Empresa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jsanchez43@prodigy.net.mx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rebuchet MS"/>
              </a:rPr>
              <a:t>Nuevas Tendencias Administrativas                 “Outsourcing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74280" y="155700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niversidad Autóno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acultad de Contaduría y Admin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unión Nacional de  Ciencias Empresa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es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c. Jaime G. 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chez Carr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LA MODA DEL SIZ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zing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planar la estructura jerárquica  para eliminar -     niveles y puestos in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)  Después de la 2a. Guerra mundial.- el  Downsizing, evoluciona, achicando a l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mpresas,  fusionando áreas, funciones, puestos, actividad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) Para la gente es Sinónimo de recorte de personal y reducción del costo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aboral.[ pánico laboral y dificultades para la política gubernamental 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)  Búsqueda de la eficiencia y mayor productividad, con el ajuste de personal,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[establecer y nivelar cargas de trabajo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) Cuida el crecimiento excesivo piramidal. [ la obesidad horizontal y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ertical, agrupando actividades similares en puestos afine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) Controla la diversificación de las áreas, funciones y puestos de l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)  Disminución proporcional de las estructuras en busca de productividad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ficiencia y  mayor flexib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) Identificación de elementos clave para buscar el perfeccionamiento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pecialización para el logro del objetivo organiz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h)  Se debe cuidar el 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NO abus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de esta herramienta para no caer en excesos con -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spidos indiscriminados e irracionales, que derivan en hostilidad o baja moral  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satisfacción laboral;  Estrés, sentimientos de rechazo, miedo o  ira  y hasta la -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strucción de la cultura organiz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CF0-C67C-47ED-9806-AFABC5FC28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B416A-3827-4FAE-A553-A0E36BF5C4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L a    M O D A   d e l   S I Z I N 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Up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zing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aptar la estructura organizacional  al crecimiento de la empresa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. [herramienta de administración estratégica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urge por la competencia regional y/o globalizada, originando, alianzas, fusiones para afrontar la crisis.[Asociación de P.&amp; G y Gillette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as alianzas estratégicas fomentan y facilitan la competitividad empresarial,   aprovechar sinergias y posicionamiento de los mercados.[Crisa y Kimberly clark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ehículo para reforzar, sobrevivir y /o atacar al mercado con estrategias de crecimiento sustentando, expansiones, fusiones, competitividad, &gt; rendimient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Necesidad de ser Líder; O bien,  estar en posición de competir vs. el # 1, [estrategia unidos se logra la fuerza para competir con mayores ventaja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provechamiento de Sinergias; trabajo en equipo, del talento y  experiencia del capital intelectual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anejo racional y optimizado de la pirámide organizacional, al ubicar consciente- mente los niveles, la creación de puestos y de talentos en forma estratég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i dos Empresas deciden asociarse, deben de clarificar sus objetivos, alcances, estrategias, comunicación, planes de acción [sinergias],que les conlleven a su  log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F82-68D0-480C-8A6B-83C7DC6DF7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E6603-7545-4E09-925A-CC5AA288C0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MX" sz="2800" spc="-1" strike="noStrike">
                <a:solidFill>
                  <a:srgbClr val="006600"/>
                </a:solidFill>
                <a:latin typeface="Arial"/>
              </a:rPr>
              <a:t>L a    M O D A   d e l   S I Z I N 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160" y="764640"/>
            <a:ext cx="89074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Leftsizin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tructura obesa, burocrática, tramitología, se le describe como [El elefante blanco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refleja en u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rganigrama complejo [muchos niveles, exagerado tramo de control, dificultad en las comunicaciones, conflictos, dualidad de funciones, omisiones, et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ficiente o nulo control de actividades por tener excesivo  #  de puest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xcesivas o laxas cargas de trabajo, al no medirse y equilibrarse su flujo, volumen y frecu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a comunicación es lenta y la información se congela o  pierde y el clima organizacional  refleja personal insatisfecho o complaciente.[burocracia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mpide tener  Visión de futuro con desarrollo; limitadas oportunidades de cambio, poco flexible; carece de capacidad de autoanalizas y auto evaluació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centración de actividades y funciones en forma desordenada y/o  arbitraria, por la costumbre y/o ceguera de taller, empirismo o egoísmo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a erradicar este mal habito producto del empirismo se recomienda recurrir al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Righsizing: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Justa medida, actuar con estrategia y flexibilidad  conforme a requerimi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E32-6645-4816-BFFD-B06800D038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7956E-582C-4050-9E7D-F607336AA5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L a    M O D A   d e l   S I Z I N 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5834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Righsizing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Justa medida, actuar con estrategia y flexibilidad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forme a requerimientos.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[ fusionar estructura y funciones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apacitación y desarrollo en habilidades multifunsionales al personal, con el objetivo de que pueda ocupar varios puestos  en caso de requerirse, sin -necesidad de contrataciones adicionales,[los servicios bancarios ejemplo HSBC.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quiere de un sistema de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motivación e incentivos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transparente y competitivo, que sea atractivo y motivacional para el personal al tener mas conocimientos, y poder desarrollar multihabilidades bien reconocidas y remuner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omenta y desarrolla el EMPOWERMENT, la proactividad e iniciativa, así como la participación del personal, con importancia, al ser tomado en cuenta y actuar con libert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quiere de un cambio en la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cultura organizacional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, para fomentar el trabajo en equipo, el desarrollo de liderazgo para actuar con  iniciativa y reconocimiento de la Alta dire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debe desarrollar en un ambiente organizacional honrado, transparente y eficientemente comunicado, para evitar conflictos, malas interpretaciones, aclarar, dudas, omisiones, abusos y ofensas, que deterioren el clima labo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deben  cuidar las cargas de trabajo y establecer controles e indicadores de resultados efectivos, para nivelarlas y evitar excesos o complacencias [liviandad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a Participación y compromiso de la Alta gerencia y el  reconocimiento puntual y transparente con el personal, podrán aseguran su éxito o fraca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BBD-A656-4863-B934-01080D29996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FA174-FBCA-4DB7-A16E-407C930030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177480"/>
            <a:ext cx="7543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Otras T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cnicas de Apoyo.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280" y="836640"/>
            <a:ext cx="90187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pan Contro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ptimización de tramos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etenci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:Principales áreas de competencia [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razón o centro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ingeniería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Simplificar y racionalizar los procesos.[reinventar proceso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mpowerment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acultar al personal para que desarrolle sus habilidades y capac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ión Estratégic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ceso para llevar a la empresa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sión de futuro, hacia el negocio en el que debe estar, aprovech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 recursos de manera opt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taffin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Service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frecer equipo humano especia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sarrollo Organizacion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- Estudio del clima y medio ambiente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bbing.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[To mob.- burlarse];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 el Acoso u hostigamiento psicológic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 el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buso del poder,.-[El autor Heinz  Leymann lo tipifica, como un fenóme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rabajando con el enemigo]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 clasifica en 4 acciones o perspectiva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)  Limitar la expresión u opinión del afectad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)  Agredir las relaciones sociales del perjudicad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)  Afectar la imagen publica de la victim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)  Afectar la libertad laboral y personal del lesionado  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0B0-2F1D-4F01-869A-2215B212891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6CB55-66E9-4CC8-99FF-47D1B4BE8C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do lo que no sea tu especialización, no lo hagas,  concesionaselo a  un expert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able.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horro de horas hombre cuando la empresa se dedica a su actividad principal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E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: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aloración Económica del Outsourc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arrollo de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un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ista de requerimientos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(programa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sistencia para seleccionar al Proveedor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ministra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ión de Políticas de R.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um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arrollo de estrategias de Negociación con el Outsourc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eño de las cláusulas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trato de servicio y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u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rantías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ión del contenido Jurídico del contrato y garantías con el Outsourcer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dir asistencia especializada en caso de renegociación o expansión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relación contractual.- (dar un valor agregad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cidirse a contratar el servicio y superar las expectativas del cliente,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sconfianza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e incertidumbr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natural a  lo descono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ministrar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el  “Outsourc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Beneficios &amp; Recomend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2414520"/>
            <a:ext cx="626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! Para que volver a inventar la rued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7FB-8D89-41D0-BF4A-86B1E33FDC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D6F61-A190-4608-9DF9-854C697813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Conclusion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.- caso Industria Automo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200400"/>
            <a:ext cx="25905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19840" y="3276720"/>
            <a:ext cx="24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Industria Automotr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.E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10552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8720" y="521028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Pintad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Vehí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76920" y="3809880"/>
            <a:ext cx="1752480" cy="144792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287640 h 1447920"/>
              <a:gd name="textAreaBottom" fmla="*/ 8798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8760" y="45720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Insour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343400" y="2362320"/>
            <a:ext cx="1828800" cy="83808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166320 h 838080"/>
              <a:gd name="textAreaBottom" fmla="*/ 5090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04600" y="271152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Outsourcing 1.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20574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57160" y="2209680"/>
            <a:ext cx="14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quil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s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352680"/>
            <a:ext cx="16761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62120" y="2438280"/>
            <a:ext cx="1371600" cy="11430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226800 h 1143000"/>
              <a:gd name="textAreaBottom" fmla="*/ 694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7760" y="342900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b ensam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ej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680" y="213372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Outsourcing.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129528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81680" y="2286000"/>
            <a:ext cx="2057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8280" y="23004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Cliente.A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15200" y="3352680"/>
            <a:ext cx="1219320" cy="106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15000" y="38098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9320" y="3473280"/>
            <a:ext cx="13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Outsour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14120" y="3048120"/>
            <a:ext cx="111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Mad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077320" y="2818800"/>
            <a:ext cx="761760" cy="685800"/>
          </a:xfrm>
          <a:custGeom>
            <a:avLst/>
            <a:gdLst>
              <a:gd name="textAreaLeft" fmla="*/ 101880 w 761760"/>
              <a:gd name="textAreaRight" fmla="*/ 659880 w 761760"/>
              <a:gd name="textAreaTop" fmla="*/ 136080 h 685800"/>
              <a:gd name="textAreaBottom" fmla="*/ 416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644920"/>
            <a:ext cx="1066680" cy="25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2362320" y="4267080"/>
            <a:ext cx="1371600" cy="11430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226800 h 1143000"/>
              <a:gd name="textAreaBottom" fmla="*/ 694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8880" y="403848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Outsourcing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733920"/>
            <a:ext cx="838080" cy="228600"/>
          </a:xfrm>
          <a:custGeom>
            <a:avLst/>
            <a:gdLst>
              <a:gd name="textAreaLeft" fmla="*/ 146520 w 838080"/>
              <a:gd name="textAreaRight" fmla="*/ 607680 w 8380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393-4AF0-417D-B81C-7691FB8A5C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F3C5E-5759-4433-A1D6-B37CA1071C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B1A-0148-421F-8BF7-7C98F8D951F2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8CB15-795B-41C5-B929-2BA8020B00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05920" cy="561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19280" y="11592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MX" sz="2400" spc="-1" strike="noStrike">
                <a:solidFill>
                  <a:srgbClr val="006600"/>
                </a:solidFill>
                <a:latin typeface="Arial"/>
              </a:rPr>
              <a:t>caso </a:t>
            </a:r>
            <a:r>
              <a:rPr b="0" lang="es-MX" sz="2400" spc="-1" strike="noStrike" u="sng">
                <a:solidFill>
                  <a:srgbClr val="006600"/>
                </a:solidFill>
                <a:uFillTx/>
                <a:latin typeface="Arial"/>
              </a:rPr>
              <a:t>“NIKe”</a:t>
            </a:r>
            <a:r>
              <a:rPr b="0" lang="es-MX" sz="2400" spc="-1" strike="noStrike">
                <a:solidFill>
                  <a:srgbClr val="006600"/>
                </a:solidFill>
                <a:latin typeface="Arial"/>
              </a:rPr>
              <a:t>, hechos y antecedentes 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A34-D489-412C-BCF4-2D1062262535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72B70-6292-4AEA-9997-97212B1B8C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la de  Oro:   </a:t>
            </a:r>
            <a:r>
              <a:rPr b="1" lang="es-MX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Conservar lo critico y difícil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ja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que alguien más especializado haga lo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que este fue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del enfoque (objetivo) de la empresa y  de maner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más económ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buscar la mej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6600"/>
                </a:solidFill>
                <a:latin typeface="Arial"/>
              </a:rPr>
              <a:t>“ 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alidad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 ”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 la transmisión mutua de Valores e integración del negocio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eneficios para todos:  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Actitud “ Ganar / Ganar 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lav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Actuar con inteligenc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decidir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u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conserva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u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concesiona a  u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erc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decisió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puede tomar conociendo a fondo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uestro nego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mpresa Intelig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la organización que posee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habilidades para crear, adquirir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transferir conoc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ene también la habilidad para modificar su conducta (su manera de hacer las cosas);  y como efect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Haber adquirido nuevos conocimientos y puntos de vista”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934920" cy="57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6200000">
            <a:off x="2644560" y="2908080"/>
            <a:ext cx="512640" cy="979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51280" y="4437000"/>
            <a:ext cx="100800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08B-35E6-4569-94C2-70C49F426CA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7C77E-4435-43C9-8295-C7276D955A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544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5840" y="1604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 y Al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osición de la Herrami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todología, Uso y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lor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moda del  SIZING.  -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tras Técnicas de Apo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eneficios y 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sión de preguntas y respue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C9F-09EB-492A-957B-F2BA761C23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2051C-1D7C-4741-8556-935E03794D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Bibliograf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í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557000"/>
            <a:ext cx="7561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utsourc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Floyd Parks y Randolph Joh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tas Expansión Julio 1999  articulo el Outsourcing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junio  2001 y 2004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aso N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tas  Manufactura Febrero y Abril de 1997 y 2000.- En busca de la eficiencia, a través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utsourc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5638680"/>
            <a:ext cx="99720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Nuevas Tendencias Administrativas                 “Outsourci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58920" y="2349360"/>
            <a:ext cx="66628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464832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ic. Jaime G. 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chez Car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sanchez43@prodigy.net.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jsanchez43@hotmail.com.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. Defin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052640"/>
            <a:ext cx="8029800" cy="525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7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s-MX" sz="1700" spc="-1" strike="noStrike">
                <a:solidFill>
                  <a:srgbClr val="000000"/>
                </a:solidFill>
                <a:latin typeface="Arial"/>
              </a:rPr>
              <a:t>Sourcing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uente,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rcearizar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[contratar con un tercero]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Subcontratación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–es la </a:t>
            </a: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Forma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de convertir los </a:t>
            </a:r>
            <a:r>
              <a:rPr b="1" lang="es-ES" sz="1700" spc="-1" strike="noStrike">
                <a:solidFill>
                  <a:srgbClr val="006600"/>
                </a:solidFill>
                <a:latin typeface="Arial"/>
              </a:rPr>
              <a:t>Costos Fijos en Variabl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Descentralizar</a:t>
            </a: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sacar  de la empresa  aquellas funciones que no sean 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u especialidad; que no den  </a:t>
            </a:r>
            <a:r>
              <a:rPr b="1" lang="es-ES" sz="1700" spc="-1" strike="noStrike">
                <a:solidFill>
                  <a:srgbClr val="006600"/>
                </a:solidFill>
                <a:latin typeface="Arial"/>
              </a:rPr>
              <a:t>valor agregado direct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u Producto o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Servici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"/>
              </a:rPr>
              <a:t>Outsourcing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Función que se realizaba en la empresa internamente y ahora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s provista por un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Proveedor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exter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no y expert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on mejor calidad,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rvicio y precio.[</a:t>
            </a: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Tercearizar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Herramienta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adelgazar a las empresas complejas y con diversidad de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ductos y desprenderse de lo que no es fundamental para el negocio, la estrategi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o su desarroll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contratar y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comisionar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los servicios a un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MX" sz="19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confiable, para que maneje con recursos externo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la(s) función(es), que no tengan que ver directamente con la actividad  fundamental de la empresa.[vocación del negocio]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13B-3379-4C87-B5B2-4EEA8B0973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257A3-8F91-4C28-8AC7-3DCD29851B1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. 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58160" cy="504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pués de la 1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r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Guerra Mundial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La tendencia fue crear grandes empresas con integración vertical y horizo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urgimiento d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ustria Japones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con Empresas pequeñas y flexibles, dinámicas y eficientes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utsourcing 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arrollo acelerado a partir de 1983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tualment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s grandes empresas (grupos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stán adelgazand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desprendiéndose de negocios no vitales, que no agregan valor a sus producto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r lo tanto, existen  beneficios e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las estructur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erticale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D5F-CD27-4954-A3C4-C60AEF889A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DA315-5CB3-4C7A-91BE-0D8D32F3DB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3. Objetivo Y Al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958160" cy="453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oncesion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 especialistas  externos, la ejecución de l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are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s) esp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ca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grar 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Eficiencia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Oportunidad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alidad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edu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oncesion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s servicios a  un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veedor exper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 de 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integración vertical a integración modular y flex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ase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oferta y la demanda de los servici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/o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Reducir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rga laboral.[Contractual y sindical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Busc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la función a descentralizar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ás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ómica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 mejor calidad y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ejores resultad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hacerla intern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Desahog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ciertas responsabilidades con un 3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externo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xperto, para dedicar mayor tiempo a la actividad fundamental de la empresa y buscar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cel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96360" y="6021360"/>
            <a:ext cx="861840" cy="4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1AC-D73C-4F78-A92D-4A1A2D5009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60195-11FA-46EA-B0D1-F00CD6E5C8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5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6600"/>
                </a:solidFill>
                <a:uFillTx/>
                <a:latin typeface="Arial"/>
              </a:rPr>
              <a:t>Outsourcing 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aquila;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samble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l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ubensambl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ceso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d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istemas de comp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tenimiento Operacional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ultaría, Auditorias,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egal,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, oper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rcadotecnia, Publicidad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omo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lemercadeo; Crédito y Cobr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ejo de algún áre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s) no estratégica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63960" y="1557360"/>
            <a:ext cx="390384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6600"/>
                </a:solidFill>
                <a:uFillTx/>
                <a:latin typeface="Arial"/>
              </a:rPr>
              <a:t>Outsourcing </a:t>
            </a:r>
            <a:r>
              <a:rPr b="1" lang="es-MX" sz="2000" spc="-1" strike="noStrike" u="sng">
                <a:solidFill>
                  <a:srgbClr val="006600"/>
                </a:solidFill>
                <a:uFillTx/>
                <a:latin typeface="Arial"/>
              </a:rPr>
              <a:t>Secund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pieza,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tocopiado,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uidad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aciona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clutamiento, selección y contratación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eventu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nsporte de personal y de Val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guridad y vigilancia,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nció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cepción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ervación de instalacion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tribución de mercancí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os cli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971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4. Exposic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 De La Herramienta: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étodo de Planeacion estratégica.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191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uando en el proceso se manejan productos  inflamables y/o explosivos, la prima de Seguros se encarece, siendo mas conveniente concesionarla con un Tercero</a:t>
            </a: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 experto, par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compartir el riesgo</a:t>
            </a: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 y los costos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B22-A206-4F0D-BDD1-8A8DAF43C6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66909-9F49-49C7-B033-7C02AC7D31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Metodolog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í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2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Subcontratar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con un 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xterno especialista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servicios de apoy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rtir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s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jos en variab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leccion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veedo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mas confiable y segu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do est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nos permit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stante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rendizaj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ptimización y consistencia d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ejo de justo a tiemp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“just-in-time”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mej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vici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co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titud y calidad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Servic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fesionaliz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 fu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bate la ineficiencia, el burocratismo, el paternalismo, el- conformismo y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ac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abidur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manejar la incertidumbre del cambio y del tiemp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64A-6C41-48C4-A8C9-C817CD2AE8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DDAEC-6015-430B-B050-0412B3653E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-27000"/>
            <a:ext cx="7378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l Valor Agre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310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ntros de 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apitalización de inteligencia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.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 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tener una ventaja competitiv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jor ca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yo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ividad y precios inferiores a niv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obal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dustria Automotriz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Ford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Motors Compan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G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. Chrysle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V.W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issan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ike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Reebok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Productos deportivos, zapatos, uniformes y ropa Spo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L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H.P. y Compaq;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icrosoft; Cisco System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para el desarroll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su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Hardware y 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eños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enetton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ropa casual y de mo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ebles Segusin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sarroll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alleres familiare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para fabricación de mue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co de G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subensambl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es de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arneses,  componentes y refac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npower de México,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servicios integrales de 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Recursos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Humanos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rvicios Informático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 proceso de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Nomina, contabilidad, Fisc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rofit recovery grou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Servicios de crédito y cobranza, Legal y penal)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.H.L; U.P.S.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;Federal Express; Estafeta.-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Servicios de mensajería y paquetería especializa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da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tor Riesg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be ser compartido  co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proveedor co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pecificacion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-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nalización contractual para su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caba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mpl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proveedor es el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cio estratég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comparten el negocio, sus beneficios;    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responsabilidad es mutua en Calidad, cumplimiento, [entrega, puntualidad y volumen, etc.]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F0E-41DB-464E-B1AA-8F18BE4A3A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444FA-BD20-45EC-ABE8-D313DD03C7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nicas de Apoyo.</a:t>
            </a:r>
            <a:br>
              <a:rPr sz="2400"/>
            </a:br>
            <a:br>
              <a:rPr sz="1000"/>
            </a:b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L a    </a:t>
            </a:r>
            <a:r>
              <a:rPr b="1" lang="es-MX" sz="2400" spc="-1" strike="noStrike" u="sng">
                <a:solidFill>
                  <a:srgbClr val="006600"/>
                </a:solidFill>
                <a:uFillTx/>
                <a:latin typeface="Arial"/>
              </a:rPr>
              <a:t>M O D A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   d e l   </a:t>
            </a:r>
            <a:r>
              <a:rPr b="1" lang="es-MX" sz="2400" spc="-1" strike="noStrike" u="sng">
                <a:solidFill>
                  <a:srgbClr val="006600"/>
                </a:solidFill>
                <a:uFillTx/>
                <a:latin typeface="Arial"/>
              </a:rPr>
              <a:t>S I Z I N G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 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zing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planar la estructura jerárquica 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iminar niveles in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zing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aptar la estructura organizacional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l crecimiento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ighsizing: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Justa medida, actuar con estrategia  y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lexibilidad conforme a requerimiento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fusionar estructura y funciones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eftsizing.-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ructura obesa, burocrática, se  describe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o [elefante blanco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sourcing: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nejo dentro de las instalaciones  con  -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os.  especialistas, que ejecutan la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CFA-B106-48A1-AD29-BFB30003F67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057CA-BC85-4A65-8674-78260914FC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39:10Z</dcterms:created>
  <dc:creator>Jaime G. Sanchez Carrillo</dc:creator>
  <dc:description/>
  <dc:language>en-US</dc:language>
  <cp:lastModifiedBy> Jaime G.Sanchez C.</cp:lastModifiedBy>
  <dcterms:modified xsi:type="dcterms:W3CDTF">2007-01-10T20:52:07Z</dcterms:modified>
  <cp:revision>85</cp:revision>
  <dc:subject/>
  <dc:title>Nuevas Tendencias Administrativas                 “Outsourcing“</dc:title>
</cp:coreProperties>
</file>